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5F4-3106-4A4C-B1E4-76A18580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6BE-7577-440E-BDC7-63AF693B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0E7-5FD4-49E8-BEA7-73488AF3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1FB-DBF2-4758-AE43-3C39359C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49F-C8FF-4833-BAB4-9B88BB71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F3D-F719-44E4-B784-A77EB9A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D28-B048-47E6-986C-ABF34FE5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04D-64BC-4F0B-ABD2-DA1DE70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CCC-50D8-485E-BAD3-8F8718B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964-7114-4201-B136-4A8C1C84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4EC-90E4-4C7D-91BE-F1A00DC5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945-48EE-459E-980A-9A25ECC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038-70BA-4F78-B46C-D0744F23D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мотр всех участков 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4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4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4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4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4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4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2296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Gi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ображение всех участков происходит отмеченным земельным участ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просмотром рекомендую пересчитать площадь для всех участк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ещё не сделано ранее (к примеру, после импорт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Vie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19:44Z</dcterms:modified>
  <cp:revision>7</cp:revision>
  <dc:subject/>
  <dc:title>Геодезическая  информационная система  v.5.0.1</dc:title>
</cp:coreProperties>
</file>