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966-4244-444F-A4C0-2367C06C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81B-E1F2-43F0-8D47-D5E87285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951F-0912-40C2-90CA-6C2D44AA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E17-C7F4-487F-8012-00A670B8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C170-7921-420D-9268-7901591A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9DB-8284-4DAF-9345-A430C413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FB62-35C3-4FB8-941D-99760FAD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7C0B-BEA5-40D6-84ED-6190E1F29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EF6-E1AD-4278-B10C-54076FD6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DB9-4AB5-49C1-A217-F9D25C6F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B64F-3A12-496C-80B9-99E86507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949B-93F6-44F6-9A21-07CE806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F5F1-CE6B-451E-A351-1B6542CBE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s://www.gis.org.ua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021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Инстал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Insta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ini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57400" y="2062080"/>
            <a:ext cx="3229200" cy="2733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nglish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жм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3573360"/>
            <a:ext cx="10764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3351 0.14236 E">
                                      <p:cBhvr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7920" y="1728720"/>
            <a:ext cx="4448160" cy="3400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494172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7920" y="1728720"/>
            <a:ext cx="4448160" cy="34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ini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494172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28840" y="1328760"/>
            <a:ext cx="6286320" cy="512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ь содержимое архива в текущий 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42100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28840" y="1328760"/>
            <a:ext cx="6286320" cy="512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ь содержимое архива в текущий 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3213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lo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юч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28920" y="2171880"/>
            <a:ext cx="428616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3440" y="1641600"/>
            <a:ext cx="6477120" cy="401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70828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ьте инсталляцион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276720" y="385920"/>
          <a:ext cx="300816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5920"/>
                    <a:ext cx="30081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8436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-mail: manager@gis.org.ua, admin@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 +38 (050) 597-00-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38172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detic Information System v.5.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© 2002-2003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229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ПРОИЗВОДСТВО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/>
          </p:cNvPr>
          <p:cNvSpPr/>
          <p:nvPr/>
        </p:nvSpPr>
        <p:spPr>
          <a:xfrm>
            <a:off x="684360" y="44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w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ww.</a:t>
            </a:r>
            <a:r>
              <a:rPr b="0" lang="ru-RU" sz="7000" spc="-1" strike="noStrike">
                <a:solidFill>
                  <a:srgbClr val="b2b2b2"/>
                </a:solidFill>
                <a:latin typeface="Times New Roman"/>
              </a:rPr>
              <a:t>GIS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.org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00600" cy="360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1413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39566 0.57292 E">
                                      <p:cBhvr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ccept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51640" y="5445000"/>
            <a:ext cx="10764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0.32083 -0.09908 E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73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069 L 0.2816 0.09977 E"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08720" y="544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8720" y="544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8:08:15Z</dcterms:created>
  <dc:creator>Sergio</dc:creator>
  <dc:description/>
  <dc:language>en-US</dc:language>
  <cp:lastModifiedBy>Sergio</cp:lastModifiedBy>
  <dcterms:modified xsi:type="dcterms:W3CDTF">2005-03-26T08:49:10Z</dcterms:modified>
  <cp:revision>9</cp:revision>
  <dc:subject/>
  <dc:title>Инструкция по инсталляции</dc:title>
</cp:coreProperties>
</file>