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604-9D4A-418D-9FBF-F2824F08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23E-6AAF-4D40-8CFB-0AC6508C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340E-835C-414E-8865-BC1DBF0D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71D-0B54-4D4F-8912-6F58469E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682-6AA1-4A3E-B440-F81367BA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62E-D42F-4169-81A5-370D4233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061-8CF2-4F8E-9848-A0F7D89A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3DF-82BB-4AA4-B125-BEB3EEF8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4A5-B652-4E02-BF42-5EEEB933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6BF-4BB0-45D9-90CF-9657D26D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F43-7766-4712-812A-4D9E6EE7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BA4-9C78-4513-94D7-C8198F31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F86F-F9A9-4616-9AED-E92306BAC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hyperlink" Target="https://www.gis.org.ua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317000" cy="5853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detic Information System v.5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чёт и уравнивание теодолитного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жные пункты указывайте после ввода всех известных пун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1200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140360" y="5300640"/>
            <a:ext cx="10764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96296E-006 L -0.10833 -0.45602 E">
                                      <p:cBhvr>
                                        <p:cTn id="48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мите «Просмотр всех объект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1200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132000" y="2205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7407E-006 L -0.10035 0.36297 E">
                                      <p:cBhvr>
                                        <p:cTn id="54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ерите закладку «Х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1200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68360" y="472428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L 0.02552 0.07962 E">
                                      <p:cBhvr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ведите ход начиная с точки на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120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67280" y="5661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-0.03732 -0.5294 E">
                                      <p:cBhvr>
                                        <p:cTn id="66" dur="1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направление хода не верное, нажмите «Вычисление правых по ходу углов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21360" cy="4532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08360" y="198900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59259E-006 L -0.18715 0.5625 E">
                                      <p:cBhvr>
                                        <p:cTn id="72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оздания нового хода нажмите левую кнопку мышки, на закладке «Ход 1», затем «Создать х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21360" cy="453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908000" y="5805360"/>
          <a:ext cx="792360" cy="3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5805360"/>
                    <a:ext cx="79236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835280" y="5877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L 0.03941 -1.85185E-006 E">
                                      <p:cBhvr>
                                        <p:cTn id="78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ерите закладку «Ход 2» и введите 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120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 ввода всех ходов, выберите меню «Уравни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5942160" cy="4471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771640" y="55166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44444E-006 L 0.02552 -0.54004 E">
                                      <p:cBhvr>
                                        <p:cTn id="84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берите меню «Теодолитного хода» и далее требуемый алгоритм уравнивания или очистки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5942160" cy="447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781360" y="1882800"/>
          <a:ext cx="1073160" cy="3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1360" y="1882800"/>
                    <a:ext cx="10731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860640" y="1873080"/>
          <a:ext cx="4038840" cy="143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60640" y="1873080"/>
                    <a:ext cx="4038840" cy="14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987640" y="18446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0.16736 0.0794 E">
                                      <p:cBhvr>
                                        <p:cTn id="90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мите на меню «Печ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1200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564000" y="22766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7.40741E-007 L 0.10434 -0.06759 E">
                                      <p:cBhvr>
                                        <p:cTn id="9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мите на кнопку «Расчёт и уравнивание теодолитных ходов и пикет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85960" y="1600200"/>
            <a:ext cx="557208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32000" y="3645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9202E-006 L 0.15937 -0.2563 E">
                                      <p:cBhvr>
                                        <p:cTn id="6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меню «Уравнивания теодолитных ход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5942160" cy="447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4371840" y="1897200"/>
          <a:ext cx="1684440" cy="105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71840" y="1897200"/>
                    <a:ext cx="168444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500720" y="1844640"/>
            <a:ext cx="10764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L 0.04913 0.05856 E">
                                      <p:cBhvr>
                                        <p:cTn id="102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22480" y="1600200"/>
            <a:ext cx="5097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276720" y="385920"/>
          <a:ext cx="3008160" cy="36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85920"/>
                    <a:ext cx="300816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84360" y="5805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GIS.org.ua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-mail: manager@gis.org.ua, admin@gis.org.ua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. +38 (050) 597-00-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6381720"/>
            <a:ext cx="8229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eodetic Information System v.5.1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pyright© 2002-2003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5229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ПРОИЗВОДСТВО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3"/>
          </p:cNvPr>
          <p:cNvSpPr/>
          <p:nvPr/>
        </p:nvSpPr>
        <p:spPr>
          <a:xfrm>
            <a:off x="684360" y="443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w</a:t>
            </a:r>
            <a:r>
              <a:rPr b="0" lang="ru-RU" sz="4000" spc="-1" strike="noStrike">
                <a:solidFill>
                  <a:srgbClr val="b2b2b2"/>
                </a:solidFill>
                <a:latin typeface="Times New Roman"/>
              </a:rPr>
              <a:t>ww.</a:t>
            </a:r>
            <a:r>
              <a:rPr b="0" lang="ru-RU" sz="7000" spc="-1" strike="noStrike">
                <a:solidFill>
                  <a:srgbClr val="b2b2b2"/>
                </a:solidFill>
                <a:latin typeface="Times New Roman"/>
              </a:rPr>
              <a:t>GIS</a:t>
            </a:r>
            <a:r>
              <a:rPr b="0" lang="ru-RU" sz="4000" spc="-1" strike="noStrike">
                <a:solidFill>
                  <a:srgbClr val="b2b2b2"/>
                </a:solidFill>
                <a:latin typeface="Times New Roman"/>
              </a:rPr>
              <a:t>.org.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мите на кнопку «Создать новую запис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22480" y="1600200"/>
            <a:ext cx="1817640" cy="2495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88000" y="1413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1481E-006 L -0.32465 0.05556 E">
                                      <p:cBhvr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8000" y="2133720"/>
            <a:ext cx="2579760" cy="2230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32000" y="162864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ите наименование проект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 также укажите прочие параме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L 0.16736 0.12152 E">
                                      <p:cBhvr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46560" y="2133720"/>
            <a:ext cx="2579400" cy="2230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932360" y="2997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мите «Сохрани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-0.08472 0.16343 E">
                                      <p:cBhvr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86120" y="1114560"/>
            <a:ext cx="1820880" cy="2500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932360" y="2997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мите «Выбор проек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-0.11614 -0.24606 E">
                                      <p:cBhvr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ерите закладку «Пунк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120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32360" y="2997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-0.32882 0.24746 E">
                                      <p:cBhvr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мите левую кнопку мышки на таблице исходных пун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1200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79640" y="472428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L 0.04132 0.04814 E">
                                      <p:cBhvr>
                                        <p:cTn id="42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ведите все известные пун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65280" y="1600200"/>
            <a:ext cx="60120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9:14:05Z</dcterms:created>
  <dc:creator>Sergio</dc:creator>
  <dc:description/>
  <dc:language>en-US</dc:language>
  <cp:lastModifiedBy>Sergio</cp:lastModifiedBy>
  <dcterms:modified xsi:type="dcterms:W3CDTF">2005-03-26T08:49:54Z</dcterms:modified>
  <cp:revision>10</cp:revision>
  <dc:subject/>
  <dc:title>Geodetic Information System v.5.2</dc:title>
</cp:coreProperties>
</file>