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9E0-67CB-43F6-93FA-0746216877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я возможностей системы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ческая информационная система предназначена дл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регистрации собственности и пользования земельно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х предусмотренных Украинским законодательством государственных актов и договоров на земельные участк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бот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одезической информации начиная с импорта GPS 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хеометри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ёмки, обработкой координат и заканчивая формированием участка для печа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бор и анализ внутрихозяйственного устройства (угодья, сооружения, здания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бор и анализ почвенной характеристики грунтов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ой оценки сельскохозяйственных угод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евания с/х угод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17F-747F-45A3-BA74-165C998A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FB-7D0C-40FA-B4ED-B44ED70D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B7A-A687-42FE-85A0-1C7612E7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A41-6D58-4047-A8E6-A092EDA4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592-A2FB-4778-ADCA-41972FFD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2D0-0481-4DF7-B580-B92AF2A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454-E704-4CE7-AF09-CACF9423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45F-C2C9-4D15-AD90-F38265B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68B-1017-4FF2-917A-D9DA83B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F90-A1C3-4465-8977-C289CD0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C4F-77AF-4994-9E6B-B4E839F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2F2-32CA-42A4-93CB-333F943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251-0DB9-4A03-AB37-BA2E5CF7B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mailto:sshelkovnikov@yahoo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is5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35640" cy="417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detic Information System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028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003" descr=""/>
          <p:cNvPicPr/>
          <p:nvPr/>
        </p:nvPicPr>
        <p:blipFill>
          <a:blip r:embed="rId1"/>
          <a:stretch/>
        </p:blipFill>
        <p:spPr>
          <a:xfrm>
            <a:off x="209520" y="1714680"/>
            <a:ext cx="2195640" cy="164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9600" y="3375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истрация прав на зем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007" descr=""/>
          <p:cNvPicPr/>
          <p:nvPr/>
        </p:nvPicPr>
        <p:blipFill>
          <a:blip r:embed="rId2"/>
          <a:stretch/>
        </p:blipFill>
        <p:spPr>
          <a:xfrm>
            <a:off x="506736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590544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ирование и пае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/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012" descr=""/>
          <p:cNvPicPr/>
          <p:nvPr/>
        </p:nvPicPr>
        <p:blipFill>
          <a:blip r:embed="rId3"/>
          <a:stretch/>
        </p:blipFill>
        <p:spPr>
          <a:xfrm>
            <a:off x="6743880" y="1714680"/>
            <a:ext cx="2201760" cy="16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0" y="337824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докум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013" descr=""/>
          <p:cNvPicPr/>
          <p:nvPr/>
        </p:nvPicPr>
        <p:blipFill>
          <a:blip r:embed="rId4"/>
          <a:stretch/>
        </p:blipFill>
        <p:spPr>
          <a:xfrm>
            <a:off x="188604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43280" y="588960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ежная оценка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 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33750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еральные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014" descr=""/>
          <p:cNvPicPr/>
          <p:nvPr/>
        </p:nvPicPr>
        <p:blipFill>
          <a:blip r:embed="rId5"/>
          <a:stretch/>
        </p:blipFill>
        <p:spPr>
          <a:xfrm>
            <a:off x="3486240" y="1717560"/>
            <a:ext cx="2195280" cy="164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04920"/>
            <a:ext cx="4686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7c80"/>
                </a:solidFill>
                <a:latin typeface="Times New Roman"/>
              </a:rPr>
              <a:t>- п</a:t>
            </a:r>
            <a:r>
              <a:rPr b="0" lang="ru-RU" sz="4400" spc="-1" strike="noStrike">
                <a:solidFill>
                  <a:srgbClr val="ff7c80"/>
                </a:solidFill>
                <a:latin typeface="Times New Roman"/>
              </a:rPr>
              <a:t>ять в од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Краткий обз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066680"/>
            <a:ext cx="5410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ёхмерно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,H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стоя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читывает автоматически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чётов определяетс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Систе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рект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емых данных при вводе высот и линейных промеров с учётом допусков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ы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ий: смещ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ртирова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цен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ек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а из програм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View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т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xcel, Mapinfo, Инвент-Град, Prism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tech Solution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п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Экспор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cInfo,  ArcView,  Prism,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-Град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, Wmf,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форма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owerSe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се   отчётные   формы просматриваются  перед  печатью.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достающи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ловых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ю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чащих землепользователях при анализе смежных участк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016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91520" y="35812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017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Регистрация прав на зем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пользоват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бственн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мель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хозяйствен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(двор, угодья, сооружения, здания) вместе с координа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ен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вместе с координат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х актов и договоров арен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ту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лад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ежная оценка сельскохозяйственных уго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паевания с/х угод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003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image005" descr=""/>
          <p:cNvPicPr/>
          <p:nvPr/>
        </p:nvPicPr>
        <p:blipFill>
          <a:blip r:embed="rId2"/>
          <a:stretch/>
        </p:blipFill>
        <p:spPr>
          <a:xfrm>
            <a:off x="5867280" y="3276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далё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ов и наоборо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вать. Данные приним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ующ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нос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с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астров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сударственных актов или договоров на земельные учас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Проектирование и паевание с</a:t>
            </a:r>
            <a:r>
              <a:rPr b="0" lang="en-US" sz="38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610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S v.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позволяет проводить паевание всего хозяйства с точностью до 1-й гривны. С этой целью система  позволяет провести полный анализ  перед  паеванием, для того чтобы учесть не только грунты, уклоны но и проектные дор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производить раздел участ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и автоматически по заданным критерия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критери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разреза земельного участка, смещение разреза, расстояние смещения, площадь отрезаемой части участка, количества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 паевании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еза можно ввести вручную или программа просчитает е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 по заданным двум координатам. Смещение также можно ввести вручну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дела по заданной площади, количеств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иров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функцию разреза участка заданным участком или по заданным двум координа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007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image009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89" name="image015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Камеральные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9320"/>
            <a:ext cx="556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  вычис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от перечень  входит:  вычисление   координат   полярным способом,  прямой  угловой  засечки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, паралле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ни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я, редуц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с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и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изменение координат     на     заданную     величину,    сортировка координат по контуру поля. Существует отработанная схема   отбора    и   сброса   координат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и электронного  тахеометра. Присутствует 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можность постро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ов или корректирование участка п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ны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тояниям. Пользовательско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е смотров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штаб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расстоя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ов участка при помощи мы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014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image01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Формирование докум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066680"/>
            <a:ext cx="8458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s v.5.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матри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дельными 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меченны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ми. Вс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могу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ть показаны или спрятаны по желани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я. Под обозначениями подразумевается лин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ы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жны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трихозяйственно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участка, смежные участки, номера смежных участков, площадь, цветные линии смежеств и т.п. Кром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а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величенным и уменьшенным изображением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895480"/>
            <a:ext cx="84582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читы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змож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ечен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ы всевозможной техничес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ументац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я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ания границ, план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иск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 как по одному так 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меченным земельным участкам, а также поддерживается режим печа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ex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012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101" name="image019" descr=""/>
          <p:cNvPicPr/>
          <p:nvPr/>
        </p:nvPicPr>
        <p:blipFill>
          <a:blip r:embed="rId2"/>
          <a:stretch/>
        </p:blipFill>
        <p:spPr>
          <a:xfrm>
            <a:off x="6095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020" descr=""/>
          <p:cNvPicPr/>
          <p:nvPr/>
        </p:nvPicPr>
        <p:blipFill>
          <a:blip r:embed="rId3"/>
          <a:stretch/>
        </p:blipFill>
        <p:spPr>
          <a:xfrm>
            <a:off x="325764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Денежная оценка </a:t>
            </a:r>
            <a:r>
              <a:rPr b="0" lang="uk-UA" sz="4400" spc="-1" strike="noStrike">
                <a:solidFill>
                  <a:srgbClr val="3333ff"/>
                </a:solidFill>
                <a:latin typeface="Times New Roman"/>
              </a:rPr>
              <a:t>с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age013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007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image021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рисоединён   модуль  просчёта среднего бала бонитета  по  хозяйству  и   просчёт   стоимости   угодий  по  данным  балов дифференциального        дохода        агрогрупп.       Удобный        интерфейс проектирования дорог,           позволяющий           произвести          паевание сельскохозяйственных   угодий   с   точностью    до    1-й гривны.   Система позволяет производить  расчёт   по   всем   категориям   угодий.   Возможен анализ как по агрогруппам  так  и  по  уклонам.  Множество отчётных форм позволяющие проанализировать  хозяйство  как по агрогруппам и контурам в разрезе  угодий  так  и  в  целом.  Добавлена   печать  уточнённого расчёта денежной оценки сельскохозяйственных уг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io</dc:creator>
  <dc:description/>
  <dc:language>en-US</dc:language>
  <cp:lastModifiedBy>Sergio</cp:lastModifiedBy>
  <dcterms:modified xsi:type="dcterms:W3CDTF">2002-02-27T14:26:13Z</dcterms:modified>
  <cp:revision>15</cp:revision>
  <dc:subject/>
  <dc:title>Geodetic Information System v.5.0</dc:title>
</cp:coreProperties>
</file>