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82F3-2FC1-4B6C-90B2-9F44B5FA7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3440-C65B-465F-B5EA-6C3DF1D16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EDD4-62FB-419B-BB04-9C758051B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7E64-478B-40A5-AD7B-C781BF03F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7912-6639-42B8-AC8F-7DCB1A4BF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C80F-59E7-4C82-B70D-CE39F6FA2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333A-BB47-4627-A8D3-38E9837B5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5B81-7A67-4004-86EA-CC306AC62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AC77-B2B1-4656-AEAA-48DFF66E5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C1FE-B9D9-43D6-BA3A-B2AEA91FC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068E-61D8-4A6D-81E0-8D9C475E5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33A3-63E3-4F7C-932C-F01B7BB1D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59352-97DA-48B2-B840-882A1C3FAB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0" t="23081" r="0" b="23081"/>
          <a:stretch/>
        </p:blipFill>
        <p:spPr>
          <a:xfrm>
            <a:off x="114480" y="69840"/>
            <a:ext cx="8921520" cy="672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66320" cy="687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Зміна коефіцієнтів</a:t>
            </a:r>
            <a:br>
              <a:rPr sz="4400"/>
            </a:b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індексаці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 головному вікні програми оберіть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меню «Списки», «Збірники цін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950760" y="1600200"/>
            <a:ext cx="7242480" cy="45259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32000" y="3645000"/>
            <a:ext cx="108000" cy="206280"/>
          </a:xfrm>
          <a:custGeom>
            <a:avLst/>
            <a:gdLst/>
            <a:ahLst/>
            <a:rect l="l" t="t" r="r" b="b"/>
            <a:pathLst>
              <a:path w="68" h="130">
                <a:moveTo>
                  <a:pt x="1" y="100"/>
                </a:moveTo>
                <a:lnTo>
                  <a:pt x="0" y="0"/>
                </a:lnTo>
                <a:lnTo>
                  <a:pt x="68" y="67"/>
                </a:lnTo>
                <a:lnTo>
                  <a:pt x="35" y="67"/>
                </a:lnTo>
                <a:lnTo>
                  <a:pt x="59" y="124"/>
                </a:lnTo>
                <a:lnTo>
                  <a:pt x="45" y="130"/>
                </a:lnTo>
                <a:lnTo>
                  <a:pt x="20" y="72"/>
                </a:lnTo>
                <a:lnTo>
                  <a:pt x="1" y="1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898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22222E-006 L -0.13195 -0.26713 E">
                                      <p:cBhvr>
                                        <p:cTn id="23" dur="1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Оберіть запис з збірником цін 2001 року та натисніть кнопку «Коефіцієнти індексації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50760" y="1600200"/>
            <a:ext cx="7242480" cy="45259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067280" y="3500280"/>
            <a:ext cx="108000" cy="206640"/>
          </a:xfrm>
          <a:custGeom>
            <a:avLst/>
            <a:gdLst/>
            <a:ahLst/>
            <a:rect l="l" t="t" r="r" b="b"/>
            <a:pathLst>
              <a:path w="68" h="130">
                <a:moveTo>
                  <a:pt x="1" y="100"/>
                </a:moveTo>
                <a:lnTo>
                  <a:pt x="0" y="0"/>
                </a:lnTo>
                <a:lnTo>
                  <a:pt x="68" y="67"/>
                </a:lnTo>
                <a:lnTo>
                  <a:pt x="35" y="67"/>
                </a:lnTo>
                <a:lnTo>
                  <a:pt x="59" y="124"/>
                </a:lnTo>
                <a:lnTo>
                  <a:pt x="45" y="130"/>
                </a:lnTo>
                <a:lnTo>
                  <a:pt x="20" y="72"/>
                </a:lnTo>
                <a:lnTo>
                  <a:pt x="1" y="1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898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2.96296E-006 L -0.0059 -0.07801 E">
                                      <p:cBhvr>
                                        <p:cTn id="37" dur="1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ведіть дані що до індексаці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950760" y="1600200"/>
            <a:ext cx="7242480" cy="45259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140360" y="2997360"/>
            <a:ext cx="107640" cy="206280"/>
          </a:xfrm>
          <a:custGeom>
            <a:avLst/>
            <a:gdLst/>
            <a:ahLst/>
            <a:rect l="l" t="t" r="r" b="b"/>
            <a:pathLst>
              <a:path w="68" h="130">
                <a:moveTo>
                  <a:pt x="1" y="100"/>
                </a:moveTo>
                <a:lnTo>
                  <a:pt x="0" y="0"/>
                </a:lnTo>
                <a:lnTo>
                  <a:pt x="68" y="67"/>
                </a:lnTo>
                <a:lnTo>
                  <a:pt x="35" y="67"/>
                </a:lnTo>
                <a:lnTo>
                  <a:pt x="59" y="124"/>
                </a:lnTo>
                <a:lnTo>
                  <a:pt x="45" y="130"/>
                </a:lnTo>
                <a:lnTo>
                  <a:pt x="20" y="72"/>
                </a:lnTo>
                <a:lnTo>
                  <a:pt x="1" y="1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898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3.33333E-006 L -0.04531 0.0375 E">
                                      <p:cBhvr>
                                        <p:cTn id="51" dur="1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(01.01.2008, Індексація розцінок,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1.061*0.994*1.082*1.123*1.103*1.116*1.166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50760" y="1600200"/>
            <a:ext cx="7242480" cy="45259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356000" y="4292640"/>
            <a:ext cx="108000" cy="206280"/>
          </a:xfrm>
          <a:custGeom>
            <a:avLst/>
            <a:gdLst/>
            <a:ahLst/>
            <a:rect l="l" t="t" r="r" b="b"/>
            <a:pathLst>
              <a:path w="68" h="130">
                <a:moveTo>
                  <a:pt x="1" y="100"/>
                </a:moveTo>
                <a:lnTo>
                  <a:pt x="0" y="0"/>
                </a:lnTo>
                <a:lnTo>
                  <a:pt x="68" y="67"/>
                </a:lnTo>
                <a:lnTo>
                  <a:pt x="35" y="67"/>
                </a:lnTo>
                <a:lnTo>
                  <a:pt x="59" y="124"/>
                </a:lnTo>
                <a:lnTo>
                  <a:pt x="45" y="130"/>
                </a:lnTo>
                <a:lnTo>
                  <a:pt x="20" y="72"/>
                </a:lnTo>
                <a:lnTo>
                  <a:pt x="1" y="1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898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2.22222E-006 L -0.01371 0.06898 E">
                                      <p:cBhvr>
                                        <p:cTn id="65" dur="1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ри редагуванні параметрів кошторису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натисніть кнопку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Коефіцієнт індексації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950760" y="1600200"/>
            <a:ext cx="7242480" cy="45259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132000" y="2637000"/>
            <a:ext cx="108000" cy="206280"/>
          </a:xfrm>
          <a:custGeom>
            <a:avLst/>
            <a:gdLst/>
            <a:ahLst/>
            <a:rect l="l" t="t" r="r" b="b"/>
            <a:pathLst>
              <a:path w="68" h="130">
                <a:moveTo>
                  <a:pt x="1" y="100"/>
                </a:moveTo>
                <a:lnTo>
                  <a:pt x="0" y="0"/>
                </a:lnTo>
                <a:lnTo>
                  <a:pt x="68" y="67"/>
                </a:lnTo>
                <a:lnTo>
                  <a:pt x="35" y="67"/>
                </a:lnTo>
                <a:lnTo>
                  <a:pt x="59" y="124"/>
                </a:lnTo>
                <a:lnTo>
                  <a:pt x="45" y="130"/>
                </a:lnTo>
                <a:lnTo>
                  <a:pt x="20" y="72"/>
                </a:lnTo>
                <a:lnTo>
                  <a:pt x="1" y="1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898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96296E-006 L 0.11215 -0.03611 E">
                                      <p:cBhvr>
                                        <p:cTn id="79" dur="1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гляд кошторис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950760" y="1600200"/>
            <a:ext cx="7242480" cy="45259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211640" y="2421000"/>
            <a:ext cx="108000" cy="206280"/>
          </a:xfrm>
          <a:custGeom>
            <a:avLst/>
            <a:gdLst/>
            <a:ahLst/>
            <a:rect l="l" t="t" r="r" b="b"/>
            <a:pathLst>
              <a:path w="68" h="130">
                <a:moveTo>
                  <a:pt x="1" y="100"/>
                </a:moveTo>
                <a:lnTo>
                  <a:pt x="0" y="0"/>
                </a:lnTo>
                <a:lnTo>
                  <a:pt x="68" y="67"/>
                </a:lnTo>
                <a:lnTo>
                  <a:pt x="35" y="67"/>
                </a:lnTo>
                <a:lnTo>
                  <a:pt x="59" y="124"/>
                </a:lnTo>
                <a:lnTo>
                  <a:pt x="45" y="130"/>
                </a:lnTo>
                <a:lnTo>
                  <a:pt x="20" y="72"/>
                </a:lnTo>
                <a:lnTo>
                  <a:pt x="1" y="1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898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4.44444E-006 L -0.11614 -0.00463 E">
                                      <p:cBhvr>
                                        <p:cTn id="93" dur="1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950760" y="1600200"/>
            <a:ext cx="7242480" cy="4525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09:10:19Z</dcterms:created>
  <dc:creator>Sergio</dc:creator>
  <dc:description/>
  <dc:language>en-US</dc:language>
  <cp:lastModifiedBy>Sergio</cp:lastModifiedBy>
  <dcterms:modified xsi:type="dcterms:W3CDTF">2008-09-23T09:54:12Z</dcterms:modified>
  <cp:revision>6</cp:revision>
  <dc:subject/>
  <dc:title>Слайд 1</dc:title>
</cp:coreProperties>
</file>